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653-9B28-4973-A3D4-D46260DE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110-FDF5-4644-A82D-A3EF7C5B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AE2-F330-4184-A9E8-10B73510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A90-DC26-4282-B0B8-B0FF6EBB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445-8EBD-491C-8412-A3F99D75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B44-A476-4573-ADA3-D478A42B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18C-8758-4371-A94C-461BDF79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2F0-54E0-42DD-9810-A244AC4D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B3B-3EA3-4E7F-AD97-3BF3EDD0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3DD-C43F-4508-A0AC-5FE5642E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73E-4FDB-4B7B-AADA-CEF4BA3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185-B534-472F-8B9E-B22B1DB7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5D636-1517-45C6-8E4F-9DF3D6B539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ytimes.com/interactive/2012/10/04/us/politics/20120804-denver-presidential-debate-obama-romney.html" TargetMode="External"/><Relationship Id="rId2" Type="http://schemas.openxmlformats.org/officeDocument/2006/relationships/hyperlink" Target="http://magazines.scholastic.com/election-2012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828800"/>
            <a:ext cx="6400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7760" y="3200400"/>
            <a:ext cx="7543800" cy="27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2012 Presidential Election- NyKia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371520"/>
            <a:ext cx="6858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 and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371600"/>
            <a:ext cx="457200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ama says that the US would have been  much worse if he was not the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Obama has signed a recovery plan and says that he has helped millions of jo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Obama says that there is still work to be do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Obama wants to raise more taxes on the wealthiest Americans and us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ey to help cre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 jo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1449360"/>
            <a:ext cx="39085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mney wants to raise more taxes on the wealthiest Americans and use  the money to help create new jo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Romney says that Obama did not do a great job  creating jobs as a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Romney wants to cut taxes on the compan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Romney  says that the extra money would enable companies to hire more wor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457200"/>
            <a:ext cx="4114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3200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ama points out  that he signed the Affordable Care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Obama says that the 2010 law gives millions more Americans access to the Affordable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1143000"/>
            <a:ext cx="38862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168560"/>
            <a:ext cx="320040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ney says that he will work repeal or officially cancel, most of the Affordable Care 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Romney says that the law will actually increase healthcare  costs for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Romney believes that the state nit the government  should be responsible for making health care more Afford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457200"/>
            <a:ext cx="4114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27000"/>
            <a:ext cx="388620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ama has extended the Bush era tax cuts for those who has earned less than $250,000 a year bet has let the taxes of the wealthiest Americans go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Pursue enacting the Buffet Rule which would require millionaires and billionaires to continue on the midd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Obama wants to reform the tax code and close loopholes for millionaires and billionaires as well as hedge fund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522440"/>
            <a:ext cx="38862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mney had made permanent across the board 20% to cut marginal tax rate which means reducing the increase tax that burdens  on the wealthier Americ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Romney wants to reduce to corporate the tax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Romney wants to eliminate the death ta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57600" y="142920"/>
            <a:ext cx="5257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57200"/>
            <a:ext cx="3657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 commands that the US troops as killed Osama bin La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bama says that the leader of the terrorist group had attacked the US on September 11,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bama has planed to bring all of the US troops to Afghanistan by the end of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84240"/>
            <a:ext cx="3657600" cy="76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mney thinks that Obama ignored the advice of military leaders about when to withdraw American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Romney says that he wants Afghan forces to continue to be trained until they can defend their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Romney says that the schedule for bringing troops home should be based on what the US generals say is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71800" y="685800"/>
            <a:ext cx="4343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143000"/>
            <a:ext cx="2743200" cy="62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ama wants to increase the amount of government aid to US schools especially to help fix those that are performing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Obama says that he  has helped make college more affordable by increasing federal aid to millions of deserv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484280"/>
            <a:ext cx="48229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omney think the government should not be involved i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omney think that the Local  governments should be respo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omney wants the college to be more affor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71800" y="685800"/>
            <a:ext cx="4800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828800"/>
            <a:ext cx="34290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ama has allowed young immigrants such as children to earn a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Obama still continues to focus on the immi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Obama has increased border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1306440"/>
            <a:ext cx="411480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mney believes that young immigrants such as children should have a 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mney says that he has reformed immigrations law to allow more vis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0400" y="1685880"/>
            <a:ext cx="8001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2286000"/>
            <a:ext cx="73152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achervisionfen.com/uus-presidency/election/58186.html?detoured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971800"/>
            <a:ext cx="7392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http://www.nytimes.com/interactive/2012/10/04/us/politics/20120804-denver-presidential-debate-obama-romney.htm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3246480"/>
            <a:ext cx="3006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magazines.scholastic.com/election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05:31Z</dcterms:created>
  <dc:creator/>
  <dc:description/>
  <dc:language>en-US</dc:language>
  <cp:lastModifiedBy/>
  <cp:revision>1</cp:revision>
  <dc:subject/>
  <dc:title/>
</cp:coreProperties>
</file>